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55B-DCEE-4868-9192-ADCDF8C3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761-B253-4D47-A343-7EE8EF2B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2BE-B272-4571-838E-AC983367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AB3C-8BD5-455D-B177-7208BE2D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B9E-3B5B-4800-8D8E-C23ADC58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909-232B-4494-B98D-D2B4C5B1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E6DB-95FD-41DF-8BA6-4ACFB122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F4D-1B0F-49F7-A99D-CF5B4EB4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C0F-279A-4C8C-9FFF-5AA9B858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C80-BBB7-41B4-A5FC-A59E9832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ECD-EB25-4338-A03D-5919F183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726-36F1-44D5-8E4E-CE36E8C8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AC28-5CCE-41E6-8DD9-C006EB7B6BA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57200" y="1714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x and the Duck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6280" y="2160"/>
            <a:ext cx="59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GROUP NAME: Music f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EMBERS: </a:t>
            </a:r>
            <a:r>
              <a:rPr b="1" i="1" lang="hu-H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Fojtovics Márta, Peszler Krisz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zövegdoboz 4"/>
          <p:cNvSpPr/>
          <p:nvPr/>
        </p:nvSpPr>
        <p:spPr>
          <a:xfrm>
            <a:off x="2028240" y="500076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ROUP  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Kép 5" descr="4.jpg"/>
          <p:cNvPicPr/>
          <p:nvPr/>
        </p:nvPicPr>
        <p:blipFill>
          <a:blip r:embed="rId1"/>
          <a:stretch/>
        </p:blipFill>
        <p:spPr>
          <a:xfrm>
            <a:off x="4643280" y="2571840"/>
            <a:ext cx="2357640" cy="3651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’m going to tell you a ta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an astute and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rightenin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x and a credulous duckling. Charlie, the duckling lived in a village, but all he wanted to do was to visit the fore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artalom helye 3" descr="Roka(kozepes).jpg"/>
          <p:cNvPicPr/>
          <p:nvPr/>
        </p:nvPicPr>
        <p:blipFill>
          <a:blip r:embed="rId1"/>
          <a:stretch/>
        </p:blipFill>
        <p:spPr>
          <a:xfrm>
            <a:off x="642960" y="2786040"/>
            <a:ext cx="3143160" cy="2359080"/>
          </a:xfrm>
          <a:prstGeom prst="rect">
            <a:avLst/>
          </a:prstGeom>
          <a:ln w="0">
            <a:noFill/>
          </a:ln>
        </p:spPr>
      </p:pic>
      <p:pic>
        <p:nvPicPr>
          <p:cNvPr id="47" name="Kép 4" descr="kacsa1(1).jpg"/>
          <p:cNvPicPr/>
          <p:nvPr/>
        </p:nvPicPr>
        <p:blipFill>
          <a:blip r:embed="rId2"/>
          <a:stretch/>
        </p:blipFill>
        <p:spPr>
          <a:xfrm>
            <a:off x="4429080" y="2286000"/>
            <a:ext cx="4435560" cy="3548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her duck didn’t let Charlie go. One day the duckling ran away and started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ploring the woo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re lived in the wood the astute fox:  Róka Re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artalom helye 3" descr="t%C3%BCsi-erd%C5%9102blog.jpg"/>
          <p:cNvPicPr/>
          <p:nvPr/>
        </p:nvPicPr>
        <p:blipFill>
          <a:blip r:embed="rId1"/>
          <a:stretch/>
        </p:blipFill>
        <p:spPr>
          <a:xfrm>
            <a:off x="1552680" y="1785960"/>
            <a:ext cx="5805360" cy="3997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óka Rex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icke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e duckling to follow him, and when they arrived at the cave of Róka Rex, he ate the little silly anim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artalom helye 3" descr="05istallosko-barlang3.jpg"/>
          <p:cNvPicPr/>
          <p:nvPr/>
        </p:nvPicPr>
        <p:blipFill>
          <a:blip r:embed="rId1"/>
          <a:stretch/>
        </p:blipFill>
        <p:spPr>
          <a:xfrm>
            <a:off x="1643040" y="2035080"/>
            <a:ext cx="5500800" cy="4125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 Fox was still hungry and soon left the cave to go to the village. Róka Rex hoped to find there many ducklings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village there were lots of ducks and duckl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Tartalom helye 3" descr="falu.jpg"/>
          <p:cNvPicPr/>
          <p:nvPr/>
        </p:nvPicPr>
        <p:blipFill>
          <a:blip r:embed="rId1"/>
          <a:stretch/>
        </p:blipFill>
        <p:spPr>
          <a:xfrm>
            <a:off x="1523880" y="2192400"/>
            <a:ext cx="6096240" cy="3343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óka Rex thought he was  in paradise. But many men appeared with guns and shot the bad fox. And they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ved happily ever after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artalom helye 3" descr="roka1.jpg"/>
          <p:cNvPicPr/>
          <p:nvPr/>
        </p:nvPicPr>
        <p:blipFill>
          <a:blip r:embed="rId1"/>
          <a:stretch/>
        </p:blipFill>
        <p:spPr>
          <a:xfrm>
            <a:off x="2666880" y="2376360"/>
            <a:ext cx="4095720" cy="3195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artalom helye 5" descr="P1010348.JPG"/>
          <p:cNvPicPr/>
          <p:nvPr/>
        </p:nvPicPr>
        <p:blipFill>
          <a:blip r:embed="rId1"/>
          <a:stretch/>
        </p:blipFill>
        <p:spPr>
          <a:xfrm>
            <a:off x="2428920" y="1500120"/>
            <a:ext cx="4071960" cy="3054240"/>
          </a:xfrm>
          <a:prstGeom prst="rect">
            <a:avLst/>
          </a:prstGeom>
          <a:ln w="0">
            <a:noFill/>
          </a:ln>
        </p:spPr>
      </p:pic>
      <p:pic>
        <p:nvPicPr>
          <p:cNvPr id="57" name="Téglalap 4" descr=""/>
          <p:cNvPicPr/>
          <p:nvPr/>
        </p:nvPicPr>
        <p:blipFill>
          <a:blip r:embed="rId2"/>
          <a:stretch/>
        </p:blipFill>
        <p:spPr>
          <a:xfrm>
            <a:off x="1195560" y="304920"/>
            <a:ext cx="6437160" cy="1438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42:59Z</dcterms:created>
  <dc:creator>abc</dc:creator>
  <dc:description/>
  <dc:language>en-US</dc:language>
  <cp:lastModifiedBy>abc</cp:lastModifiedBy>
  <dcterms:modified xsi:type="dcterms:W3CDTF">2010-02-23T22:15:37Z</dcterms:modified>
  <cp:revision>4</cp:revision>
  <dc:subject/>
  <dc:title>1. dia</dc:title>
</cp:coreProperties>
</file>